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9818-A67B-42C5-914E-5B9BD6C78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C8B8-3D98-4FB7-B832-E6AECEE89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6D4D-C33F-44B8-8DD1-92F9E15CE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CAB2-82A9-4E24-8BD6-BE8761953D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0BB0-C962-4221-A23D-04B8C373A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A535-9F4C-4189-8F49-CC26ED14D1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2AB-D3E3-419E-8300-8CC8AC8F7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383C-8BED-4E5A-A9E9-26DCD4926A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8377-6944-4584-9FD5-DC5F5B8904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6484-DDDA-486C-896D-4999818CC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D62B-76D7-40FE-8590-10E04D633C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B5B0-A2A1-4521-8205-B82BFCC488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AC9B-AC0A-4E7D-B752-5EB5E0933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0143-C365-4E43-9A5F-71D84A85B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F589-7323-4852-AA6A-B93378B9C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8A86-0E38-4CA5-AC5C-D4968686C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63F7-421B-4726-A0E1-0610AD9DB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B472-C94F-4958-B0DD-835BD65A6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DE68-D261-454A-A605-5B4010FF7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8E47-AB2B-4ED3-BD67-C86F3B3AD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4435-0AF2-4EC3-A2F5-F6D16B13E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522-93AD-48FB-B53A-FF72BB292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9ECB-0E24-4C76-B1F2-230C90A4A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8267-7F4E-4213-9F7A-2EB5BE630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ach Building is a custom project – the BIM processes must be customized to fit the project and team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76D9-C9C7-4B3E-A8DB-FBD1B3925D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A74D-06B0-413D-B077-FA6837C79B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rching goal is to produce a standard document that can be incorporated into a Standard and disseminated through the buildingSMART Alli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37D5-F273-4755-A750-C0877AF8E7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3909-A580-48A3-A33C-820982DC3180}" type="slidenum"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74AD-B663-4AF8-9E19-A8974DBA3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6031-0914-4F63-9309-733E091AF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E80-307F-409D-A798-0C61B9A0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80A-3CDF-4E1D-A9A3-643BED49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346-FC50-4C9A-B220-F53FEB36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4D5-83AE-4B27-9E23-8D591E9F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B9C1-023A-4532-83C5-A70E371B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5C2F-99F7-4D52-89D8-85C4D56E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DAC1-1F4A-4913-91C6-B60A2208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6159-14F0-439C-8867-505C1FAB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5194-1AE5-4A4B-8829-B3422BFD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A5BD-4865-4FBB-809F-5B59A9B9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EF7A-195A-4216-B5F1-FA858F8B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B14-E553-442B-B43F-0F86B6A8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738D-4CE4-4163-A55C-D41F8A33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02CF-C6C9-4F59-B2DD-6A0B0312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E79C-7E6C-416F-9EF4-E70156D1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1D6B-5A2C-408D-B69F-82ECE90D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694C-3515-4D94-92AA-368C0B85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89F1-7A27-4ABD-BC61-CF41F64D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C4A9-7CA8-49FF-A825-4D60D46A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0BED-6E3F-40FD-A5F0-CA379A60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1126-F7B2-4480-923E-EB7A42B0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FBCC-26FE-4A15-9C57-7C2CFF24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214-3DFF-4948-BDA0-98BC1337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AF1A-A617-4075-8891-5EAF3271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394D-EB33-4888-8AB6-4A72E0F0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6FE2-C392-40DB-8DC9-3BE1DD1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BE89-0F72-4209-B035-CA86995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3476-E6C9-4BB6-BBA6-56E4D78E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9D7E-30B0-42FB-B4B4-CF960A4C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97633-31FF-4780-BB1F-7F8B2B9C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2AAE7-7A15-4517-980D-8A9EBA96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1D7D3-FA93-49D6-B295-AFAC0A85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E9154-0FE5-40B0-8C19-27D16016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069-A47B-460F-9CC7-F53FCB3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DD2CD-35AD-4131-AA15-F2E76B6C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05861-6B07-4600-8F43-E35B78A6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2C39-1C6B-4646-A547-C95E654F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E850-D307-48DB-8E7B-F29CA107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ED36-4887-4E1F-BBF1-8FFACCB8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CC45-D6FF-42E1-92F0-D54F601A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4675-2E70-43F2-A9F5-61512383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069D-FC8F-4410-926F-A51CDE25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1FE9-6C6E-4B43-9F15-F03CCAB8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726-2791-40D0-B480-70FD7E14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28D-D4D8-4A4E-AC41-FD1AA341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128-7058-48B4-B557-9F193C04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E97-07DB-44EB-B57A-6FD8E06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26D-A982-44ED-9315-1151513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B38E-2432-42E4-A9C1-EF49EEF49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EC2E-DE5E-4428-855D-5764F7656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3D04-888B-464B-8F82-5E32F707A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8B38-0184-41A4-8B4F-CBDC73855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u.edu/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construction-institute.org/scriptcontent/Index.cfm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pankowfoundation.org/index.htm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Execution Planning for Building Information Mode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PACE: The Partnership for Achieving Construction Excellence"/>
          <p:cNvPicPr/>
          <p:nvPr/>
        </p:nvPicPr>
        <p:blipFill>
          <a:blip r:embed="rId2"/>
          <a:stretch/>
        </p:blipFill>
        <p:spPr>
          <a:xfrm>
            <a:off x="3400560" y="3505320"/>
            <a:ext cx="4524120" cy="384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Penn State Office of Physical Plan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251460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II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167652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http://www.pankowfoundation.org/images/pankow_site_logo.gif">
            <a:hlinkClick r:id="rId7"/>
          </p:cNvPr>
          <p:cNvPicPr/>
          <p:nvPr/>
        </p:nvPicPr>
        <p:blipFill>
          <a:blip r:embed="rId8"/>
          <a:srcRect l="0" t="0" r="0" b="8522"/>
          <a:stretch/>
        </p:blipFill>
        <p:spPr>
          <a:xfrm>
            <a:off x="6135840" y="228600"/>
            <a:ext cx="1788840" cy="1114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6"/>
          <p:cNvSpPr/>
          <p:nvPr/>
        </p:nvSpPr>
        <p:spPr>
          <a:xfrm>
            <a:off x="914400" y="129528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eting  #8 – April 2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76320" y="2057400"/>
            <a:ext cx="487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buildingSMART Alliance project sponsored b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truction Industry Institute (CI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n State Office of Physical Plant (O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4" name="Diagram 4" descr=""/>
          <p:cNvPicPr/>
          <p:nvPr/>
        </p:nvPicPr>
        <p:blipFill>
          <a:blip r:embed="rId2"/>
          <a:stretch/>
        </p:blipFill>
        <p:spPr>
          <a:xfrm>
            <a:off x="1627200" y="1871640"/>
            <a:ext cx="6370560" cy="41212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533520" y="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3: Designing the BIM Execution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Windows\System32\config\systemprofile\AppData\Local\Microsoft\Windows\Temporary Internet Files\Content.Outlook\43OTX0YL\BIM_Uses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8" name="Diagram 4" descr=""/>
          <p:cNvPicPr/>
          <p:nvPr/>
        </p:nvPicPr>
        <p:blipFill>
          <a:blip r:embed="rId2"/>
          <a:stretch/>
        </p:blipFill>
        <p:spPr>
          <a:xfrm>
            <a:off x="1627200" y="1871640"/>
            <a:ext cx="6370560" cy="41212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533520" y="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3: Designing the BIM Execution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Windows\System32\config\systemprofile\AppData\Local\Microsoft\Windows\Temporary Internet Files\Content.Outlook\43OTX0YL\BIM_Uses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609480" y="1509840"/>
            <a:ext cx="5029200" cy="5130720"/>
          </a:xfrm>
          <a:prstGeom prst="rect">
            <a:avLst/>
          </a:prstGeom>
          <a:ln w="25560">
            <a:solidFill>
              <a:srgbClr val="da1f28"/>
            </a:solidFill>
            <a:miter/>
          </a:ln>
        </p:spPr>
      </p:pic>
      <p:sp>
        <p:nvSpPr>
          <p:cNvPr id="242" name="Rounded Rectangle 4"/>
          <p:cNvSpPr/>
          <p:nvPr/>
        </p:nvSpPr>
        <p:spPr>
          <a:xfrm>
            <a:off x="2209680" y="3048120"/>
            <a:ext cx="152424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a1f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Develop_4D_Model_All_Phases_3.jpg"/>
          <p:cNvPicPr/>
          <p:nvPr/>
        </p:nvPicPr>
        <p:blipFill>
          <a:blip r:embed="rId1"/>
          <a:srcRect l="-1741" t="0" r="0" b="29233"/>
          <a:stretch/>
        </p:blipFill>
        <p:spPr>
          <a:xfrm>
            <a:off x="-76320" y="1295280"/>
            <a:ext cx="9212400" cy="54104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533520" y="0"/>
            <a:ext cx="7696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mplate Process Map – 4D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Windows\System32\config\systemprofile\AppData\Local\Microsoft\Windows\Temporary Internet Files\Content.Outlook\43OTX0YL\BIM_Uses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609480" y="1509840"/>
            <a:ext cx="5029200" cy="5130720"/>
          </a:xfrm>
          <a:prstGeom prst="rect">
            <a:avLst/>
          </a:prstGeom>
          <a:ln w="25560">
            <a:solidFill>
              <a:srgbClr val="da1f28"/>
            </a:solidFill>
            <a:miter/>
          </a:ln>
        </p:spPr>
      </p:pic>
      <p:sp>
        <p:nvSpPr>
          <p:cNvPr id="247" name="Rounded Rectangle 4"/>
          <p:cNvSpPr/>
          <p:nvPr/>
        </p:nvSpPr>
        <p:spPr>
          <a:xfrm>
            <a:off x="2209680" y="4267080"/>
            <a:ext cx="152424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a1f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533520" y="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Template Process Map – Design Coord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ProcessPackage_Generic_DesignCoordination_2009-04-20 0431.jpg"/>
          <p:cNvPicPr/>
          <p:nvPr/>
        </p:nvPicPr>
        <p:blipFill>
          <a:blip r:embed="rId1"/>
          <a:srcRect l="0" t="0" r="0" b="28665"/>
          <a:stretch/>
        </p:blipFill>
        <p:spPr>
          <a:xfrm>
            <a:off x="0" y="15238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1" name="Diagram 5" descr=""/>
          <p:cNvPicPr/>
          <p:nvPr/>
        </p:nvPicPr>
        <p:blipFill>
          <a:blip r:embed="rId2"/>
          <a:stretch/>
        </p:blipFill>
        <p:spPr>
          <a:xfrm>
            <a:off x="1627200" y="1871640"/>
            <a:ext cx="6370560" cy="41212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533520" y="-5724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3: Designing the BIM Execution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Windows\System32\config\systemprofile\AppData\Local\Microsoft\Windows\Temporary Internet Files\Content.Outlook\43OTX0YL\BIM_Uses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609480" y="1509840"/>
            <a:ext cx="5029200" cy="5130720"/>
          </a:xfrm>
          <a:prstGeom prst="rect">
            <a:avLst/>
          </a:prstGeom>
          <a:ln w="25560">
            <a:solidFill>
              <a:srgbClr val="da1f28"/>
            </a:solidFill>
            <a:miter/>
          </a:ln>
        </p:spPr>
      </p:pic>
      <p:sp>
        <p:nvSpPr>
          <p:cNvPr id="255" name="Rounded Rectangle 4"/>
          <p:cNvSpPr/>
          <p:nvPr/>
        </p:nvSpPr>
        <p:spPr>
          <a:xfrm>
            <a:off x="2209680" y="4267080"/>
            <a:ext cx="152424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a1f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2"/>
          <p:cNvSpPr/>
          <p:nvPr/>
        </p:nvSpPr>
        <p:spPr>
          <a:xfrm>
            <a:off x="533520" y="0"/>
            <a:ext cx="7696080" cy="1130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roject Specific Process Map 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Design Coordination (Millennium Science Proj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ProcessPackage_3_projectspecific_millennium_3D MEP Coordination_2009-04-20 0435.jpg"/>
          <p:cNvPicPr/>
          <p:nvPr/>
        </p:nvPicPr>
        <p:blipFill>
          <a:blip r:embed="rId1"/>
          <a:srcRect l="0" t="0" r="0" b="28230"/>
          <a:stretch/>
        </p:blipFill>
        <p:spPr>
          <a:xfrm>
            <a:off x="0" y="1828800"/>
            <a:ext cx="9144000" cy="401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am Me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533520" y="1219320"/>
            <a:ext cx="81532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Board of Adviso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ke Smith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Executive Director of buildingSMART Alliance (Industry Champio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Victor Sanvido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Senior Vice President, Southland Indus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Francois Grobl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US Army CERL and IAI - North Ameri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Hagan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ject Knowledge Center, U.S. General Services Administ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oad Kousheshi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esident, AEC Strateg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 Ganno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Manager of Design Services, Penn State Office of Physical Pla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Falzarano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Barton Malow Compa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But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HD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rek Cunz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Project Development, Mortenson Constru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Konchar-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Vice President – Balfour Beatty Constru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CIC Research Program Team Memb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John Mess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Director of the CIC Research Progra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may Anumba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fessor and Head of Architectural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am Hunt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Assist. Professor of Psycholog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raig Dub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hD Student, Architectural Engineering (Constructio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olleen Kasprzak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Operation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twan Saluja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Planning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Nevena Zikic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Desig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hane Goodma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AE/MAE Student, Architectural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Sponsor Representativ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Bob Te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 Director, The Charles Pankow Foundatio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Thomas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Research, The Construction Industry Institut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533520" y="129528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ject Goals/BIM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M Process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livery Strategy/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M Scope Defin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al Roles and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unication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chnology Infrastructure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l Set-up, Organization and Qualit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ject Referenc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3" descr="TOC_COMPARISON.bmp"/>
          <p:cNvPicPr/>
          <p:nvPr/>
        </p:nvPicPr>
        <p:blipFill>
          <a:blip r:embed="rId1"/>
          <a:srcRect l="0" t="3074" r="0" b="2715"/>
          <a:stretch/>
        </p:blipFill>
        <p:spPr>
          <a:xfrm>
            <a:off x="609480" y="1371600"/>
            <a:ext cx="8382240" cy="5315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533520" y="12952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 Goals/BIM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ces to Chapter 2 – Identify BIM 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Process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ces to Chapter 3 – Defining the BIM Execu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.   Delivery Strategy/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ition of the Delivery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ces to AIA IPD and DB contr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Contractual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es 5 important issues to address in BIM contr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ces to multiples AIA and ConsensusDOCS BIM contract attach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533520" y="129528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.   BIM Scope defin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ces to AIA E202, USACE BIM Roadmap and Omniclass Construction Classific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ing upon AIA E202 to provide a more comprehensive document with gu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ed to CSI Uni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Deliverables instead of Project Ph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D (100-500) or project specific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ouping description of model components ad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A removed from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3" descr="Blank_Model_Progression_Requirements.jpg"/>
          <p:cNvPicPr/>
          <p:nvPr/>
        </p:nvPicPr>
        <p:blipFill>
          <a:blip r:embed="rId1"/>
          <a:stretch/>
        </p:blipFill>
        <p:spPr>
          <a:xfrm>
            <a:off x="533520" y="1295280"/>
            <a:ext cx="8610480" cy="556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3" descr="Blank_Model_Progression_Requirements.jpg"/>
          <p:cNvPicPr/>
          <p:nvPr/>
        </p:nvPicPr>
        <p:blipFill>
          <a:blip r:embed="rId1"/>
          <a:srcRect l="0" t="73980" r="52213" b="0"/>
          <a:stretch/>
        </p:blipFill>
        <p:spPr>
          <a:xfrm>
            <a:off x="533520" y="3836880"/>
            <a:ext cx="8153280" cy="2863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Blank_Model_Progression_Requirements.jpg"/>
          <p:cNvPicPr/>
          <p:nvPr/>
        </p:nvPicPr>
        <p:blipFill>
          <a:blip r:embed="rId2"/>
          <a:srcRect l="0" t="0" r="52213" b="78089"/>
          <a:stretch/>
        </p:blipFill>
        <p:spPr>
          <a:xfrm>
            <a:off x="533520" y="1273320"/>
            <a:ext cx="8153280" cy="2415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533520" y="129528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.   Organizational Roles and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Team composition and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Manager selection and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munication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ectronic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eting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chnology Infrastructure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neral overview of software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ecific software and hardware not 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533520" y="129528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.   Model Set-up, Organization and Quality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ortant model set-up, organization and quality control top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C 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es of quality che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.   Project Referenc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itical Project Overview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y Project Cont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609480" y="1371600"/>
            <a:ext cx="83822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ys that you can help u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view  Chapters 1 and 2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ail:  crd137@psu.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x:  814-863-47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s to test drive BIM Execution Pla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533520" y="1295280"/>
            <a:ext cx="83818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Meeting Time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ference Call 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533520" y="129528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ject Goal an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ecution Plann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cussion Chapters 1 and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verview Chapters 3 and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685800" y="1457280"/>
            <a:ext cx="815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Many owners and team members are struggling with how to effectively implement the BIM throughout the lifecycle of a building proj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roject Go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33520" y="12952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Develop a guide that will focus on the decisions required to increase the Building Information Modeling process efficiency throughout the stages of a building proje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roject Deliver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533520" y="1295280"/>
            <a:ext cx="86104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BIM Execution Planning Gu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Includes guidelines for BIM implementation at various project ph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Posted and distributed through the buildingSMART Allia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BIM Implementation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Spreadsheets, Word Templates, and Process Map Templ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Assist Team Member to make decisions necessary for BIM Use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457200" y="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ecution Planning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9" name="TextBox 8"/>
          <p:cNvSpPr/>
          <p:nvPr/>
        </p:nvSpPr>
        <p:spPr>
          <a:xfrm>
            <a:off x="533520" y="0"/>
            <a:ext cx="7696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 - Chapters 1 and 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1" name="TextBox 8"/>
          <p:cNvSpPr/>
          <p:nvPr/>
        </p:nvSpPr>
        <p:spPr>
          <a:xfrm>
            <a:off x="533520" y="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3: Designing the BIM Execution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Diagram 11" descr=""/>
          <p:cNvPicPr/>
          <p:nvPr/>
        </p:nvPicPr>
        <p:blipFill>
          <a:blip r:embed="rId2"/>
          <a:stretch/>
        </p:blipFill>
        <p:spPr>
          <a:xfrm>
            <a:off x="1627200" y="1871640"/>
            <a:ext cx="6370560" cy="412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11:04Z</dcterms:created>
  <dc:creator>cmk264</dc:creator>
  <dc:description/>
  <dc:language>en-US</dc:language>
  <cp:lastModifiedBy>Windows User</cp:lastModifiedBy>
  <dcterms:modified xsi:type="dcterms:W3CDTF">2009-04-24T15:01:52Z</dcterms:modified>
  <cp:revision>119</cp:revision>
  <dc:subject/>
  <dc:title>Slide 1</dc:title>
</cp:coreProperties>
</file>